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6B76-1117-4BD7-85AF-4B12AF82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3FC8-8A8C-4A86-9ADC-8319E0F2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98A9-E5B4-4396-80F4-FE8E53D5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DA68-BA55-4ED1-8C06-D3EF253EB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AC28-FBFC-4DC3-8221-60761580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2206-B932-4495-80FA-0C290787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0646-AD5D-432C-BA28-D60022E5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BE20-94C6-4FB5-B97E-B2FE40013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E119-CBDE-457C-9E4C-13CF19A4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2042-629C-405C-9746-4FD867A3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EC38-6854-439D-9605-42B74591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DBA4-B26C-43BE-A66F-3BF91E53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E6F5-8443-4D03-A3A7-D39264C9DB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3.png"/><Relationship Id="rId6" Type="http://schemas.openxmlformats.org/officeDocument/2006/relationships/image" Target="../media/image7.jpeg"/><Relationship Id="rId7" Type="http://schemas.openxmlformats.org/officeDocument/2006/relationships/image" Target="../media/image5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9.jpeg"/><Relationship Id="rId11" Type="http://schemas.openxmlformats.org/officeDocument/2006/relationships/image" Target="../media/image6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3.png"/><Relationship Id="rId6" Type="http://schemas.openxmlformats.org/officeDocument/2006/relationships/image" Target="../media/image7.jpeg"/><Relationship Id="rId7" Type="http://schemas.openxmlformats.org/officeDocument/2006/relationships/image" Target="../media/image5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7.jpeg"/><Relationship Id="rId6" Type="http://schemas.openxmlformats.org/officeDocument/2006/relationships/image" Target="../media/image5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9.jpeg"/><Relationship Id="rId10" Type="http://schemas.openxmlformats.org/officeDocument/2006/relationships/image" Target="../media/image6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3.png"/><Relationship Id="rId5" Type="http://schemas.openxmlformats.org/officeDocument/2006/relationships/image" Target="../media/image7.jpeg"/><Relationship Id="rId6" Type="http://schemas.openxmlformats.org/officeDocument/2006/relationships/image" Target="../media/image5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9.jpeg"/><Relationship Id="rId10" Type="http://schemas.openxmlformats.org/officeDocument/2006/relationships/image" Target="../media/image6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3.png"/><Relationship Id="rId6" Type="http://schemas.openxmlformats.org/officeDocument/2006/relationships/image" Target="../media/image7.jpeg"/><Relationship Id="rId7" Type="http://schemas.openxmlformats.org/officeDocument/2006/relationships/image" Target="../media/image5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9.jpe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3.png"/><Relationship Id="rId6" Type="http://schemas.openxmlformats.org/officeDocument/2006/relationships/image" Target="../media/image7.jpeg"/><Relationship Id="rId7" Type="http://schemas.openxmlformats.org/officeDocument/2006/relationships/image" Target="../media/image5.jpeg"/><Relationship Id="rId8" Type="http://schemas.openxmlformats.org/officeDocument/2006/relationships/image" Target="../media/image12.jpeg"/><Relationship Id="rId9" Type="http://schemas.openxmlformats.org/officeDocument/2006/relationships/image" Target="../media/image9.jpeg"/><Relationship Id="rId10" Type="http://schemas.openxmlformats.org/officeDocument/2006/relationships/image" Target="../media/image6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3.png"/><Relationship Id="rId5" Type="http://schemas.openxmlformats.org/officeDocument/2006/relationships/image" Target="../media/image7.jpeg"/><Relationship Id="rId6" Type="http://schemas.openxmlformats.org/officeDocument/2006/relationships/image" Target="../media/image5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9.jpeg"/><Relationship Id="rId10" Type="http://schemas.openxmlformats.org/officeDocument/2006/relationships/image" Target="../media/image6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image" Target="../media/image13.png"/><Relationship Id="rId5" Type="http://schemas.openxmlformats.org/officeDocument/2006/relationships/image" Target="../media/image7.jpeg"/><Relationship Id="rId6" Type="http://schemas.openxmlformats.org/officeDocument/2006/relationships/image" Target="../media/image5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9.jpeg"/><Relationship Id="rId10" Type="http://schemas.openxmlformats.org/officeDocument/2006/relationships/image" Target="../media/image6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3.png"/><Relationship Id="rId6" Type="http://schemas.openxmlformats.org/officeDocument/2006/relationships/image" Target="../media/image7.jpeg"/><Relationship Id="rId7" Type="http://schemas.openxmlformats.org/officeDocument/2006/relationships/image" Target="../media/image5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9.jpeg"/><Relationship Id="rId11" Type="http://schemas.openxmlformats.org/officeDocument/2006/relationships/image" Target="../media/image6.jpeg"/><Relationship Id="rId12" Type="http://schemas.openxmlformats.org/officeDocument/2006/relationships/image" Target="../media/image10.jpeg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13.png"/><Relationship Id="rId6" Type="http://schemas.openxmlformats.org/officeDocument/2006/relationships/image" Target="../media/image7.jpeg"/><Relationship Id="rId7" Type="http://schemas.openxmlformats.org/officeDocument/2006/relationships/image" Target="../media/image5.jpeg"/><Relationship Id="rId8" Type="http://schemas.openxmlformats.org/officeDocument/2006/relationships/image" Target="../media/image11.jpeg"/><Relationship Id="rId9" Type="http://schemas.openxmlformats.org/officeDocument/2006/relationships/image" Target="../media/image9.jpeg"/><Relationship Id="rId10" Type="http://schemas.openxmlformats.org/officeDocument/2006/relationships/image" Target="../media/image6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2.jpeg"/><Relationship Id="rId4" Type="http://schemas.openxmlformats.org/officeDocument/2006/relationships/image" Target="../media/image13.png"/><Relationship Id="rId5" Type="http://schemas.openxmlformats.org/officeDocument/2006/relationships/image" Target="../media/image7.jpeg"/><Relationship Id="rId6" Type="http://schemas.openxmlformats.org/officeDocument/2006/relationships/image" Target="../media/image5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9.jpeg"/><Relationship Id="rId10" Type="http://schemas.openxmlformats.org/officeDocument/2006/relationships/image" Target="../media/image6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image" Target="../media/image9.jpeg"/><Relationship Id="rId5" Type="http://schemas.openxmlformats.org/officeDocument/2006/relationships/image" Target="../media/image8.jpeg"/><Relationship Id="rId6" Type="http://schemas.openxmlformats.org/officeDocument/2006/relationships/image" Target="../media/image5.jpeg"/><Relationship Id="rId7" Type="http://schemas.openxmlformats.org/officeDocument/2006/relationships/image" Target="../media/image2.jpe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8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4.png"/><Relationship Id="rId7" Type="http://schemas.openxmlformats.org/officeDocument/2006/relationships/image" Target="../media/image7.jpeg"/><Relationship Id="rId8" Type="http://schemas.openxmlformats.org/officeDocument/2006/relationships/image" Target="../media/image10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 animaux en dan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2373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ted by H. Butterf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5373720"/>
            <a:ext cx="7848360" cy="6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5185080" cy="388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35280" y="551664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rhinocé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8000" y="1197000"/>
            <a:ext cx="5400720" cy="4051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92360" y="5516640"/>
            <a:ext cx="57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tortue ma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59280" y="1052640"/>
            <a:ext cx="2773080" cy="3816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68360" y="54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’orang-out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ac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5113440" cy="3344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03280" y="51577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baleine bl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1258920" cy="944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1136520" cy="1584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84360" y="2133720"/>
            <a:ext cx="1582560" cy="1090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716360" y="2276640"/>
            <a:ext cx="1728720" cy="11188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395280" y="3573360"/>
            <a:ext cx="2016000" cy="1317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4859280" y="620640"/>
            <a:ext cx="1656000" cy="1193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2771640" y="2852640"/>
            <a:ext cx="1076400" cy="1584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5435640" y="371628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3708360" y="4653000"/>
            <a:ext cx="1414440" cy="19447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0"/>
          <a:stretch/>
        </p:blipFill>
        <p:spPr>
          <a:xfrm>
            <a:off x="1116000" y="5157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1"/>
          <a:stretch/>
        </p:blipFill>
        <p:spPr>
          <a:xfrm>
            <a:off x="7093080" y="549360"/>
            <a:ext cx="1800000" cy="1350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2"/>
          <a:stretch/>
        </p:blipFill>
        <p:spPr>
          <a:xfrm>
            <a:off x="6516720" y="5229360"/>
            <a:ext cx="1584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1258920" cy="944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1136520" cy="15843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84360" y="2133720"/>
            <a:ext cx="1582560" cy="1090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4716360" y="2276640"/>
            <a:ext cx="1728720" cy="1118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95280" y="3573360"/>
            <a:ext cx="2016000" cy="1317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4859280" y="620640"/>
            <a:ext cx="1656000" cy="1193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2771640" y="2852640"/>
            <a:ext cx="1076400" cy="1584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5435640" y="371628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3708360" y="4653000"/>
            <a:ext cx="1414440" cy="1944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1116000" y="5157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1"/>
          <a:stretch/>
        </p:blipFill>
        <p:spPr>
          <a:xfrm>
            <a:off x="6516720" y="5229360"/>
            <a:ext cx="1584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1258920" cy="944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1136520" cy="1584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84360" y="2133720"/>
            <a:ext cx="1582560" cy="1090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716360" y="2276640"/>
            <a:ext cx="1728720" cy="1118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4859280" y="620640"/>
            <a:ext cx="1656000" cy="1193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2771640" y="2852640"/>
            <a:ext cx="1076400" cy="1584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5435640" y="371628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3708360" y="4653000"/>
            <a:ext cx="1414440" cy="1944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1116000" y="5157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7093080" y="549360"/>
            <a:ext cx="1800000" cy="1350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6516720" y="5229360"/>
            <a:ext cx="1584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1258920" cy="944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1582560" cy="1090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716360" y="2276640"/>
            <a:ext cx="1728720" cy="1118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95280" y="3573360"/>
            <a:ext cx="2016000" cy="1317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859280" y="620640"/>
            <a:ext cx="1656000" cy="1193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2771640" y="2852640"/>
            <a:ext cx="1076400" cy="1584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5435640" y="371628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3708360" y="4653000"/>
            <a:ext cx="1414440" cy="1944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1116000" y="5157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7093080" y="549360"/>
            <a:ext cx="1800000" cy="13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1"/>
          <a:stretch/>
        </p:blipFill>
        <p:spPr>
          <a:xfrm>
            <a:off x="6516720" y="5229360"/>
            <a:ext cx="1584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1258920" cy="944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1136520" cy="1584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84360" y="2133720"/>
            <a:ext cx="1582560" cy="1090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716360" y="2276640"/>
            <a:ext cx="1728720" cy="1118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395280" y="3573360"/>
            <a:ext cx="2016000" cy="1317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4859280" y="620640"/>
            <a:ext cx="1656000" cy="1193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2771640" y="2852640"/>
            <a:ext cx="1076400" cy="1584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5435640" y="371628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3708360" y="4653000"/>
            <a:ext cx="1414440" cy="1944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1116000" y="5157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7093080" y="549360"/>
            <a:ext cx="1800000" cy="13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1258920" cy="944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1136520" cy="1584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84360" y="2133720"/>
            <a:ext cx="1582560" cy="10904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716360" y="2276640"/>
            <a:ext cx="1728720" cy="11188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395280" y="3573360"/>
            <a:ext cx="2016000" cy="1317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4859280" y="620640"/>
            <a:ext cx="1656000" cy="11937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2771640" y="2852640"/>
            <a:ext cx="1076400" cy="1584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3708360" y="4653000"/>
            <a:ext cx="1414440" cy="1944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1116000" y="5157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7093080" y="549360"/>
            <a:ext cx="1800000" cy="1350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1"/>
          <a:stretch/>
        </p:blipFill>
        <p:spPr>
          <a:xfrm>
            <a:off x="6516720" y="5229360"/>
            <a:ext cx="1584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40000" y="1916280"/>
            <a:ext cx="4476600" cy="3085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47640" y="5157720"/>
            <a:ext cx="60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’éléphant afric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43280" y="404640"/>
            <a:ext cx="1136520" cy="1584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1582560" cy="10904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716360" y="2276640"/>
            <a:ext cx="1728720" cy="1118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395280" y="3573360"/>
            <a:ext cx="2016000" cy="1317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4859280" y="620640"/>
            <a:ext cx="1656000" cy="11937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2771640" y="2852640"/>
            <a:ext cx="1076400" cy="1584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5435640" y="371628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3708360" y="4653000"/>
            <a:ext cx="1414440" cy="1944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1116000" y="5157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7093080" y="549360"/>
            <a:ext cx="1800000" cy="1350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1"/>
          <a:stretch/>
        </p:blipFill>
        <p:spPr>
          <a:xfrm>
            <a:off x="6516720" y="5229360"/>
            <a:ext cx="1584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1258920" cy="9446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1136520" cy="1584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716360" y="2276640"/>
            <a:ext cx="1728720" cy="11188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95280" y="3573360"/>
            <a:ext cx="2016000" cy="13176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4859280" y="620640"/>
            <a:ext cx="1656000" cy="1193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6"/>
          <a:stretch/>
        </p:blipFill>
        <p:spPr>
          <a:xfrm>
            <a:off x="2771640" y="2852640"/>
            <a:ext cx="1076400" cy="1584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7"/>
          <a:stretch/>
        </p:blipFill>
        <p:spPr>
          <a:xfrm>
            <a:off x="5435640" y="371628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8"/>
          <a:stretch/>
        </p:blipFill>
        <p:spPr>
          <a:xfrm>
            <a:off x="3708360" y="4653000"/>
            <a:ext cx="1414440" cy="1944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9"/>
          <a:stretch/>
        </p:blipFill>
        <p:spPr>
          <a:xfrm>
            <a:off x="1116000" y="5157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0"/>
          <a:stretch/>
        </p:blipFill>
        <p:spPr>
          <a:xfrm>
            <a:off x="7093080" y="549360"/>
            <a:ext cx="1800000" cy="1350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1"/>
          <a:stretch/>
        </p:blipFill>
        <p:spPr>
          <a:xfrm>
            <a:off x="6516720" y="5229360"/>
            <a:ext cx="1584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1258920" cy="9446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1136520" cy="1584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84360" y="2133720"/>
            <a:ext cx="1582560" cy="10904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716360" y="2276640"/>
            <a:ext cx="1728720" cy="1118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395280" y="3573360"/>
            <a:ext cx="2016000" cy="1317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4859280" y="620640"/>
            <a:ext cx="1656000" cy="11937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2771640" y="2852640"/>
            <a:ext cx="1076400" cy="1584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5435640" y="371628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3708360" y="4653000"/>
            <a:ext cx="1414440" cy="19447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1116000" y="5157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1"/>
          <a:stretch/>
        </p:blipFill>
        <p:spPr>
          <a:xfrm>
            <a:off x="7093080" y="549360"/>
            <a:ext cx="1800000" cy="1350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2"/>
          <a:stretch/>
        </p:blipFill>
        <p:spPr>
          <a:xfrm>
            <a:off x="6516720" y="5229360"/>
            <a:ext cx="1584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1258920" cy="9446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1136520" cy="1584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84360" y="2133720"/>
            <a:ext cx="1582560" cy="1090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4716360" y="2276640"/>
            <a:ext cx="1728720" cy="11188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395280" y="3573360"/>
            <a:ext cx="2016000" cy="13176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4859280" y="620640"/>
            <a:ext cx="1656000" cy="1193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2771640" y="2852640"/>
            <a:ext cx="1076400" cy="1584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5435640" y="371628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9"/>
          <a:stretch/>
        </p:blipFill>
        <p:spPr>
          <a:xfrm>
            <a:off x="1116000" y="5157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10"/>
          <a:stretch/>
        </p:blipFill>
        <p:spPr>
          <a:xfrm>
            <a:off x="7093080" y="549360"/>
            <a:ext cx="1800000" cy="1350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1"/>
          <a:stretch/>
        </p:blipFill>
        <p:spPr>
          <a:xfrm>
            <a:off x="6516720" y="5229360"/>
            <a:ext cx="1584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1258920" cy="944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843280" y="404640"/>
            <a:ext cx="1136520" cy="1584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84360" y="2133720"/>
            <a:ext cx="1582560" cy="1090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395280" y="3573360"/>
            <a:ext cx="2016000" cy="1317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5"/>
          <a:stretch/>
        </p:blipFill>
        <p:spPr>
          <a:xfrm>
            <a:off x="4859280" y="620640"/>
            <a:ext cx="1656000" cy="11937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6"/>
          <a:stretch/>
        </p:blipFill>
        <p:spPr>
          <a:xfrm>
            <a:off x="2771640" y="2852640"/>
            <a:ext cx="1076400" cy="1584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7"/>
          <a:stretch/>
        </p:blipFill>
        <p:spPr>
          <a:xfrm>
            <a:off x="5435640" y="3716280"/>
            <a:ext cx="1584360" cy="11890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8"/>
          <a:stretch/>
        </p:blipFill>
        <p:spPr>
          <a:xfrm>
            <a:off x="3708360" y="4653000"/>
            <a:ext cx="1414440" cy="1944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9"/>
          <a:stretch/>
        </p:blipFill>
        <p:spPr>
          <a:xfrm>
            <a:off x="1116000" y="5157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0"/>
          <a:stretch/>
        </p:blipFill>
        <p:spPr>
          <a:xfrm>
            <a:off x="7093080" y="549360"/>
            <a:ext cx="1800000" cy="1350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1"/>
          <a:stretch/>
        </p:blipFill>
        <p:spPr>
          <a:xfrm>
            <a:off x="6516720" y="5229360"/>
            <a:ext cx="158436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108000" y="1197000"/>
          <a:ext cx="9001080" cy="4967280"/>
        </p:xfrm>
        <a:graphic>
          <a:graphicData uri="http://schemas.openxmlformats.org/drawingml/2006/table">
            <a:tbl>
              <a:tblPr/>
              <a:tblGrid>
                <a:gridCol w="1368360"/>
                <a:gridCol w="1871640"/>
                <a:gridCol w="1440000"/>
                <a:gridCol w="1944720"/>
                <a:gridCol w="237636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Afri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As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Euro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Améri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20720" cy="54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611280" y="2492280"/>
            <a:ext cx="718920" cy="51768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11280" y="3141720"/>
            <a:ext cx="647640" cy="485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611280" y="3716280"/>
            <a:ext cx="718920" cy="539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611280" y="4365720"/>
            <a:ext cx="718920" cy="539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826920" y="4941720"/>
            <a:ext cx="370080" cy="5446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684360" y="5661000"/>
            <a:ext cx="653760" cy="450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coute: Où habitent ces animau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179280" y="198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9"/>
          <a:stretch/>
        </p:blipFill>
        <p:spPr>
          <a:xfrm>
            <a:off x="179280" y="256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0"/>
          <a:stretch/>
        </p:blipFill>
        <p:spPr>
          <a:xfrm>
            <a:off x="179280" y="3213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1"/>
          <a:stretch/>
        </p:blipFill>
        <p:spPr>
          <a:xfrm>
            <a:off x="179280" y="378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2"/>
          <a:stretch/>
        </p:blipFill>
        <p:spPr>
          <a:xfrm>
            <a:off x="179280" y="4437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3"/>
          <a:stretch/>
        </p:blipFill>
        <p:spPr>
          <a:xfrm>
            <a:off x="179280" y="5084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4"/>
          <a:stretch/>
        </p:blipFill>
        <p:spPr>
          <a:xfrm>
            <a:off x="179280" y="5661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2" dur="4633" fill="hold"/>
                                        <p:tgtEl>
                                          <p:spTgt spid="2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4714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" dur="5086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224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4145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4819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7" dur="3785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5237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Qu’est-ce que c’est en angla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’ours bla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’ours b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’éléphant afric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’éléphant asi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 rhinocé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 panda gé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 léopard de nei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 tig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 gor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’orang - outa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 tortue mar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 baleine bl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ù est-ce qu’on trouve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672840" cy="9367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619280" y="148428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trouve le tigre en A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587160" cy="863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547640" y="270828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trouve le gorille en……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611280" y="3645000"/>
            <a:ext cx="792000" cy="5950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619280" y="371628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trouve …. en Arc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539640" y="4508640"/>
            <a:ext cx="863640" cy="647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619280" y="450864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trouve … e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539640" y="5445000"/>
            <a:ext cx="865440" cy="649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619280" y="551664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trouve  … e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84328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84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450864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95280" y="5013360"/>
            <a:ext cx="2016000" cy="13176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2232000" cy="1538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6443640" y="2565360"/>
            <a:ext cx="2158920" cy="1620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3564000" y="479736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5"/>
          <a:stretch/>
        </p:blipFill>
        <p:spPr>
          <a:xfrm>
            <a:off x="3780000" y="2421000"/>
            <a:ext cx="1414440" cy="1944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6"/>
          <a:stretch/>
        </p:blipFill>
        <p:spPr>
          <a:xfrm>
            <a:off x="3780000" y="189000"/>
            <a:ext cx="1446120" cy="20160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7"/>
          <a:stretch/>
        </p:blipFill>
        <p:spPr>
          <a:xfrm>
            <a:off x="6443640" y="333360"/>
            <a:ext cx="2087640" cy="15048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8"/>
          <a:stretch/>
        </p:blipFill>
        <p:spPr>
          <a:xfrm>
            <a:off x="6516720" y="4869000"/>
            <a:ext cx="2087640" cy="15667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9"/>
          <a:stretch/>
        </p:blipFill>
        <p:spPr>
          <a:xfrm>
            <a:off x="324000" y="333360"/>
            <a:ext cx="180000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256360" cy="3399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258920" y="530064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’éléphant asiat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16360" y="549360"/>
            <a:ext cx="3360600" cy="4680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84360" y="5445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tig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987640" y="692280"/>
            <a:ext cx="3259080" cy="4797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92360" y="558972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gor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5397840" cy="4048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92360" y="551664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’ours bla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50920" y="1197000"/>
            <a:ext cx="5400720" cy="3894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08000" y="537372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’ours br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24000" y="981000"/>
            <a:ext cx="4896000" cy="3672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979640" y="50133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léopard de nei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08000" y="1052640"/>
            <a:ext cx="5616720" cy="4213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63640" y="544500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panda gé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08:41:31Z</dcterms:created>
  <dc:creator>Helena</dc:creator>
  <dc:description/>
  <dc:language>en-US</dc:language>
  <cp:lastModifiedBy>staff</cp:lastModifiedBy>
  <dcterms:modified xsi:type="dcterms:W3CDTF">2010-06-29T08:04:27Z</dcterms:modified>
  <cp:revision>11</cp:revision>
  <dc:subject/>
  <dc:title>Bedrohte Arten</dc:title>
</cp:coreProperties>
</file>